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6173-3034-4454-9256-2E86CA000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98B8-F71B-4CD0-A7D9-5536AF37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37B5-64AD-4E46-84BC-4F7C8E86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A47-E020-4112-865F-9AE10383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A40-45FA-4541-A06D-5990F581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A2B8-731E-4BD2-8A53-C7E26D12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6CEA-9883-4451-A349-424A6E82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C9F-292E-45CE-A4B1-90E0A262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AEA-069A-4D84-B36D-349D0B21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B13-49AA-4AD4-8272-2DC562A6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F54-0E43-4E4D-85AB-AED3378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012-3568-47D6-AD2B-7EC1BF1B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5B2-BCD7-4FB9-A511-7AB907E2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F6A-CECF-47F8-A011-07E29817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325-489A-4694-831D-DD6ECB7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283E-3458-4C7F-9886-EEB2C424F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"/>
              </a:rPr>
              <a:t>Look at the painting &amp; follow the step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</a:rPr>
              <a:t>List the objects that you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</a:rPr>
              <a:t>Star the objects that you think are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skervil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"/>
              </a:rPr>
              <a:t>what do the symbol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</a:rPr>
              <a:t>What do you think the over all message of the painting 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anifest_destiny"/>
          <p:cNvPicPr/>
          <p:nvPr/>
        </p:nvPicPr>
        <p:blipFill>
          <a:blip r:embed="rId1"/>
          <a:stretch/>
        </p:blipFill>
        <p:spPr>
          <a:xfrm>
            <a:off x="609480" y="169920"/>
            <a:ext cx="7772400" cy="662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-380880" y="0"/>
            <a:ext cx="1036296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6T13:00:52Z</dcterms:created>
  <dc:creator>Microsoft Office User</dc:creator>
  <dc:description/>
  <dc:language>en-US</dc:language>
  <cp:lastModifiedBy>Microsoft Office User</cp:lastModifiedBy>
  <dcterms:modified xsi:type="dcterms:W3CDTF">2016-05-26T14:32:39Z</dcterms:modified>
  <cp:revision>1</cp:revision>
  <dc:subject/>
  <dc:title>Look at the painting &amp; follow the steps:</dc:title>
</cp:coreProperties>
</file>